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98D-B28B-4606-9F38-1B7C51DE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201-5B15-449C-9A19-F8404BE6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2F2-23D4-4802-AFA2-007BA980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1F4-73B6-4C47-BC5D-36FF848D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F457-31B8-4AE2-BC3B-61FE84EE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D9B9-B1EF-4D6B-88F9-C0E44DA3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1D38-F46E-44C1-AAF2-3B2884E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FA26-2045-4F64-AFBC-2CB82FA2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59F1-4EB1-4DA0-8EA0-45714F5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9F5-80E1-461A-824C-17A5962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1F18-34AB-42CA-86A1-9FAF7163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DD5-C421-423D-BB12-0AB91E28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ED0E-5926-4ACE-BBDF-78D0D6F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AA0-6646-4637-B45A-EDD1F50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BFCE-CABB-4736-B40F-5F5FEB5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2BB1-D0CE-4207-B797-0DD76519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1E20-F505-4630-B845-AA418E50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E43-DD1E-48B4-8F35-5C0E700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062-9A07-4FD9-80F0-C9D938B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4F9-660B-4181-8A4E-6526B0E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B5E-8C19-4294-BBD1-9FF4DE9D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361-4763-4DAD-99B1-2AB673F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CAE-F57B-46ED-81CC-4A84B0B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EBE-5A68-4CBB-994A-9C532EB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6D23-2D94-4FBA-BAA1-BFE548C7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E7C7-4865-4B4C-AC26-9E193C8F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Тема: «Команда повторения «Для»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71600" y="533520"/>
          <a:ext cx="140004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14000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878440" y="2176560"/>
                <a:ext cx="2024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 5* Квадрат(x)-6 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5* Квадрат(x)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124080"/>
            <a:ext cx="25146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3352680"/>
            <a:ext cx="1676160" cy="2374920"/>
          </a:xfrm>
          <a:custGeom>
            <a:avLst/>
            <a:gdLst/>
            <a:ahLst/>
            <a:rect l="l" t="t" r="r" b="b"/>
            <a:pathLst>
              <a:path w="1056" h="1496">
                <a:moveTo>
                  <a:pt x="0" y="48"/>
                </a:moveTo>
                <a:cubicBezTo>
                  <a:pt x="176" y="772"/>
                  <a:pt x="352" y="1496"/>
                  <a:pt x="528" y="1488"/>
                </a:cubicBezTo>
                <a:cubicBezTo>
                  <a:pt x="704" y="1480"/>
                  <a:pt x="968" y="248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4800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_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:=(x&gt;=-1) и (x&lt;=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:=(y&gt;=-3) и (y&lt;=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31520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962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овторение.Tестирование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Выбери вари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46483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7493"/>
                </a:moveTo>
                <a:lnTo>
                  <a:pt x="49137" y="7493"/>
                </a:lnTo>
                <a:lnTo>
                  <a:pt x="49137" y="12828"/>
                </a:lnTo>
                <a:cubicBezTo>
                  <a:pt x="49137" y="13751"/>
                  <a:pt x="49938" y="14482"/>
                  <a:pt x="50973" y="14482"/>
                </a:cubicBezTo>
                <a:lnTo>
                  <a:pt x="52636" y="14482"/>
                </a:lnTo>
                <a:cubicBezTo>
                  <a:pt x="53671" y="14482"/>
                  <a:pt x="54472" y="13751"/>
                  <a:pt x="54472" y="12828"/>
                </a:cubicBezTo>
                <a:lnTo>
                  <a:pt x="54472" y="7493"/>
                </a:lnTo>
                <a:lnTo>
                  <a:pt x="52636" y="7493"/>
                </a:lnTo>
                <a:lnTo>
                  <a:pt x="56143" y="3985"/>
                </a:lnTo>
                <a:lnTo>
                  <a:pt x="59816" y="7493"/>
                </a:lnTo>
                <a:lnTo>
                  <a:pt x="57980" y="7493"/>
                </a:lnTo>
                <a:lnTo>
                  <a:pt x="57980" y="12828"/>
                </a:lnTo>
                <a:cubicBezTo>
                  <a:pt x="57980" y="15596"/>
                  <a:pt x="55403" y="18155"/>
                  <a:pt x="52636" y="18155"/>
                </a:cubicBezTo>
                <a:lnTo>
                  <a:pt x="50973" y="18155"/>
                </a:lnTo>
                <a:cubicBezTo>
                  <a:pt x="48205" y="18155"/>
                  <a:pt x="45629" y="15596"/>
                  <a:pt x="45629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Вари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 action="ppaction://hlinksldjump"/>
              </a:rPr>
              <a:t>а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2" action="ppaction://hlinksldjump"/>
              </a:rPr>
              <a:t>нт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6a7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480060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7493"/>
                </a:moveTo>
                <a:lnTo>
                  <a:pt x="49137" y="7493"/>
                </a:lnTo>
                <a:lnTo>
                  <a:pt x="49137" y="12828"/>
                </a:lnTo>
                <a:cubicBezTo>
                  <a:pt x="49137" y="13751"/>
                  <a:pt x="49938" y="14482"/>
                  <a:pt x="50973" y="14482"/>
                </a:cubicBezTo>
                <a:lnTo>
                  <a:pt x="52636" y="14482"/>
                </a:lnTo>
                <a:cubicBezTo>
                  <a:pt x="53671" y="14482"/>
                  <a:pt x="54472" y="13751"/>
                  <a:pt x="54472" y="12828"/>
                </a:cubicBezTo>
                <a:lnTo>
                  <a:pt x="54472" y="7493"/>
                </a:lnTo>
                <a:lnTo>
                  <a:pt x="52636" y="7493"/>
                </a:lnTo>
                <a:lnTo>
                  <a:pt x="56143" y="3985"/>
                </a:lnTo>
                <a:lnTo>
                  <a:pt x="59816" y="7493"/>
                </a:lnTo>
                <a:lnTo>
                  <a:pt x="57980" y="7493"/>
                </a:lnTo>
                <a:lnTo>
                  <a:pt x="57980" y="12828"/>
                </a:lnTo>
                <a:cubicBezTo>
                  <a:pt x="57980" y="15596"/>
                  <a:pt x="55403" y="18155"/>
                  <a:pt x="52636" y="18155"/>
                </a:cubicBezTo>
                <a:lnTo>
                  <a:pt x="50973" y="18155"/>
                </a:lnTo>
                <a:cubicBezTo>
                  <a:pt x="48205" y="18155"/>
                  <a:pt x="45629" y="15596"/>
                  <a:pt x="45629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3" action="ppaction://hlinksldjump"/>
              </a:rPr>
              <a:t>Вариант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11430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! Возьмите листок бумаги. Выберите вариант - согласно чётности компьютера: чётный номер - вариант 2, нечётный номер - вариант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838080"/>
            <a:ext cx="73152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следующего алгоритм:а при а=2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ограмма Вопрос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a,b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вод(a,'Введите любое число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Если a&gt;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То b:= Корень(5+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'Нет решений для введённого числа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20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Б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5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'Нет решений для введённого числа!</a:t>
            </a:r>
            <a:r>
              <a:rPr b="0" lang="en-US" sz="1400" spc="-1" strike="noStrike">
                <a:solidFill>
                  <a:srgbClr val="c523eb"/>
                </a:solidFill>
                <a:latin typeface="Garamond"/>
              </a:rPr>
              <a:t>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562720" y="2681280"/>
          <a:ext cx="2666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681280"/>
                    <a:ext cx="2666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2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9144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Что делает следующая программ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f,k: Веществ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вод(k,'Введите k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сли k&lt;&g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о f:=(1+k)/(3-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k='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f='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Нет решения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числителя (1+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знаменателя (3-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выражения (1+k)/(3-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724280" y="1752480"/>
          <a:ext cx="319896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3198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95280" y="106668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 при а=345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a,a2: Цел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вод(a,'Введите трёхзначное число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a2:=(a  Div 10)  Mod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сли a2 Mod 2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о Вывод(a2,'- число чётное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наче  Вывод(a2,'- число не чётное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- число чётное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число не чётное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3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486400" y="1828800"/>
          <a:ext cx="235728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828800"/>
                    <a:ext cx="23572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0720" y="1206360"/>
            <a:ext cx="701028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й график функции будет построен в результате выполнения программы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 5* Квадрат(x) 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5* Квадрат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5+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у=5*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-5х+1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4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181480" y="1981080"/>
          <a:ext cx="21718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981080"/>
                    <a:ext cx="21718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90720" y="99072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будет ответ в результате выполнения программы при х=5, у=2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:=(x&gt;=-1) и (x&lt;=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(y&gt;=-3) и (y&lt;=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Не принадлежит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5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057560" y="2254320"/>
          <a:ext cx="35625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7560" y="2254320"/>
                    <a:ext cx="35625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90720" y="106668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будет ответ в результате выполнения программы при у=1, х=-2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:=(x&gt;=-1) и (x&lt;=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(y&gt;=-3) и (y&lt;=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Не принадлежит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6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676520"/>
          <a:ext cx="241632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76520"/>
                    <a:ext cx="241632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143000"/>
            <a:ext cx="70102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 при n=4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Вариант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4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6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7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48320" y="2057400"/>
          <a:ext cx="281916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28191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5360" y="1828440"/>
            <a:ext cx="77486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1566720" y="2362320"/>
            <a:ext cx="757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торение. Тес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66720" y="38098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мину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66720" y="44956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ление алгорит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66720" y="3048120"/>
            <a:ext cx="757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анда повторения «Дл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315200" y="1828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010280" y="24382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1240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962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572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720" y="51814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52578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943600"/>
            <a:ext cx="75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* Команда Для и Ро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106668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Вариант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k+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5+10+15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5+4+3+…+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5+9+13+…+n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8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629400" y="1143000"/>
          <a:ext cx="1906560" cy="42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143000"/>
                    <a:ext cx="190656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701064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Вариант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^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8+10+12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8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1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8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2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15000" y="609480"/>
          <a:ext cx="284472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609480"/>
                    <a:ext cx="28447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1066680"/>
            <a:ext cx="70102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Робот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 Внизу_Пуст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красить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ли k&gt;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 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верх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робот шагает вправо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низ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0100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743200" y="1600200"/>
          <a:ext cx="586728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600200"/>
                    <a:ext cx="58672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838080"/>
            <a:ext cx="73152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следующего алгоритм:а при а=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ограмма Вопро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a,b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вод(a,'Введите любое число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Если a&lt;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То b:= Квадрат(5+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ывод('Нет решений для введённого числа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4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Б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81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25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'Нет решений для введённого числа!</a:t>
            </a:r>
            <a:r>
              <a:rPr b="0" lang="en-US" sz="1400" spc="-1" strike="noStrike">
                <a:solidFill>
                  <a:srgbClr val="c523eb"/>
                </a:solidFill>
                <a:latin typeface="Garamond"/>
              </a:rPr>
              <a:t>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248520" y="3324240"/>
          <a:ext cx="2590560" cy="20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324240"/>
                    <a:ext cx="2590560" cy="20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2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9144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Что делает следующая программ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грамма Вариант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f,k: Веществ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вод(k,'Введите k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сли k&gt;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о f:=Корень(k)/(3+k*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k='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f='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'Нет решения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числителя </a:t>
            </a:r>
            <a:r>
              <a:rPr b="0" lang="be-BY" sz="1800" spc="-1" strike="noStrike">
                <a:solidFill>
                  <a:srgbClr val="c523eb"/>
                </a:solidFill>
                <a:latin typeface="Garamond"/>
              </a:rPr>
              <a:t>К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орень(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знаменателя (3+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k*k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выражения Корень(k)/(3+k*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k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648320" y="1760400"/>
          <a:ext cx="43434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60400"/>
                    <a:ext cx="43434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90720" y="106668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 при а=678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a,a2: Цел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вод(a,'Введите трёхзначное число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вод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a2:=(a  Div 10)  Mod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сли a2 Mod 2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о Вывод(a2,'- число чётное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наче  Вывод(a2,'- число не чётное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- число не чётное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число чётное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3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4120" y="2587680"/>
          <a:ext cx="3504960" cy="28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87680"/>
                    <a:ext cx="350496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66680" y="990720"/>
            <a:ext cx="701064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й график функции будет построен в результате выполнения программы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 5+4*х- Квадрат(x) 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 5+4*х- Квадрат(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5+4х+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у= 5+4х-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-5х+4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4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638680" y="914400"/>
          <a:ext cx="23083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914400"/>
                    <a:ext cx="23083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90720" y="99072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будет ответ в результате выполнения программы при х=-7, у=2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:=(x&gt;=-8) и (x&lt;=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(y&gt;=-3) и (y&lt;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’Не 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П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ринадлежит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5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191120" y="1981080"/>
          <a:ext cx="449568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81080"/>
                    <a:ext cx="44956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990720"/>
            <a:ext cx="701064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ов будет ответ в результате выполнения программы при у=1, х=-4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l:=(x&gt;=-5) и (x&lt;=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(y&gt;=-1) и (y&lt;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’Не 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П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ринадлежит!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6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0" y="2514600"/>
          <a:ext cx="380988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38098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90720" y="990720"/>
            <a:ext cx="70102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 при n=5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Вариант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k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3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15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5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7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400800" y="990720"/>
          <a:ext cx="2165400" cy="45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990720"/>
                    <a:ext cx="21654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Выбери вариант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523880"/>
            <a:ext cx="4800600" cy="60984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9945" h="21600">
                <a:moveTo>
                  <a:pt x="0" y="0"/>
                </a:moveTo>
                <a:lnTo>
                  <a:pt x="169945" y="0"/>
                </a:lnTo>
                <a:lnTo>
                  <a:pt x="169945" y="21600"/>
                </a:lnTo>
                <a:lnTo>
                  <a:pt x="0" y="21600"/>
                </a:lnTo>
                <a:close/>
              </a:path>
              <a:path fill="lightenLess" w="169945" h="21600">
                <a:moveTo>
                  <a:pt x="0" y="0"/>
                </a:moveTo>
                <a:lnTo>
                  <a:pt x="169945" y="0"/>
                </a:lnTo>
                <a:lnTo>
                  <a:pt x="168545" y="1400"/>
                </a:lnTo>
                <a:lnTo>
                  <a:pt x="1400" y="1400"/>
                </a:lnTo>
                <a:close/>
              </a:path>
              <a:path fill="darken" w="169945" h="21600">
                <a:moveTo>
                  <a:pt x="169945" y="0"/>
                </a:moveTo>
                <a:lnTo>
                  <a:pt x="169945" y="21600"/>
                </a:lnTo>
                <a:lnTo>
                  <a:pt x="168545" y="20200"/>
                </a:lnTo>
                <a:lnTo>
                  <a:pt x="168545" y="1400"/>
                </a:lnTo>
                <a:close/>
              </a:path>
              <a:path fill="darkenLess" w="169945" h="21600">
                <a:moveTo>
                  <a:pt x="16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545" y="20200"/>
                </a:lnTo>
                <a:close/>
              </a:path>
              <a:path fill="lighten" w="16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9945" h="21600">
                <a:moveTo>
                  <a:pt x="77966" y="7493"/>
                </a:moveTo>
                <a:lnTo>
                  <a:pt x="81474" y="7493"/>
                </a:lnTo>
                <a:lnTo>
                  <a:pt x="81474" y="12828"/>
                </a:lnTo>
                <a:cubicBezTo>
                  <a:pt x="81474" y="13751"/>
                  <a:pt x="82275" y="14482"/>
                  <a:pt x="83310" y="14482"/>
                </a:cubicBezTo>
                <a:lnTo>
                  <a:pt x="84973" y="14482"/>
                </a:lnTo>
                <a:cubicBezTo>
                  <a:pt x="86008" y="14482"/>
                  <a:pt x="86809" y="13751"/>
                  <a:pt x="86809" y="12828"/>
                </a:cubicBezTo>
                <a:lnTo>
                  <a:pt x="86809" y="7493"/>
                </a:lnTo>
                <a:lnTo>
                  <a:pt x="84973" y="7493"/>
                </a:lnTo>
                <a:lnTo>
                  <a:pt x="88480" y="3985"/>
                </a:lnTo>
                <a:lnTo>
                  <a:pt x="92153" y="7493"/>
                </a:lnTo>
                <a:lnTo>
                  <a:pt x="90317" y="7493"/>
                </a:lnTo>
                <a:lnTo>
                  <a:pt x="90317" y="12828"/>
                </a:lnTo>
                <a:cubicBezTo>
                  <a:pt x="90317" y="15596"/>
                  <a:pt x="87741" y="18155"/>
                  <a:pt x="84973" y="18155"/>
                </a:cubicBezTo>
                <a:lnTo>
                  <a:pt x="83310" y="18155"/>
                </a:lnTo>
                <a:cubicBezTo>
                  <a:pt x="80543" y="18155"/>
                  <a:pt x="77966" y="15596"/>
                  <a:pt x="77966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           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5146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            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73392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             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8006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               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14400" y="99072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Вариант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k+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7+10+13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5+12+19+…+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7+12+17+…+n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8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581280" y="1752480"/>
          <a:ext cx="495000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49500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99072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Вариант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s:=s+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^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k:=k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4+10+16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7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7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477120" y="1066680"/>
          <a:ext cx="207936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066680"/>
                    <a:ext cx="207936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1066680"/>
            <a:ext cx="701028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аков результат выполнения программы?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Робот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 Справа_Пуст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красить(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ли k&gt;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 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верх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низ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право и закрашивает клетки одним цветом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право и закрашивает клетки разными цветами; Д) правильный ответ отсутству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7924680" y="55627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114800" y="1752480"/>
          <a:ext cx="3657600" cy="30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752480"/>
                    <a:ext cx="365760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7086600" y="1219320"/>
          <a:ext cx="153828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219320"/>
                    <a:ext cx="1538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523eb"/>
                </a:solidFill>
                <a:latin typeface="Garamond"/>
              </a:rPr>
              <a:t>Команды повторения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523880"/>
            <a:ext cx="7315200" cy="64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алгоритмическом языке ИнтАл имеются три команды повто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вторять_Пока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&lt;условие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000000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Заверш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Повторять_Дл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&lt;счётчик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От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&lt;начальное значение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&lt;конечное значение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000000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Заверш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овтор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000000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Завершить_Если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&lt;условие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708660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3429000"/>
            <a:ext cx="4038480" cy="0"/>
          </a:xfrm>
          <a:prstGeom prst="line">
            <a:avLst/>
          </a:prstGeom>
          <a:ln w="93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2320" y="5257800"/>
            <a:ext cx="4038480" cy="0"/>
          </a:xfrm>
          <a:prstGeom prst="line">
            <a:avLst/>
          </a:prstGeom>
          <a:ln w="93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7696080" y="2895480"/>
          <a:ext cx="104796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895480"/>
                    <a:ext cx="10479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295280" y="1676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45720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усть необходимо вычислить сумму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=1+2+3+4+5+6+7+8+9+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6633"/>
                </a:solidFill>
                <a:latin typeface="Times New Roman"/>
              </a:rPr>
              <a:t>Рассмотрим решение этой задачи с использованием всех трёх команд повто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286000"/>
            <a:ext cx="2286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Программа По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Повторять_Пока k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2362320"/>
            <a:ext cx="23623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Программа Д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,k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Повторять_Для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От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До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2286000"/>
            <a:ext cx="2743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Программа Заверш_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,k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Повтор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Завершить_Если k&gt;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23eb"/>
                </a:solidFill>
                <a:latin typeface="Times New Roman"/>
              </a:rPr>
              <a:t>Оператор Повторять_Пок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838080"/>
            <a:ext cx="73915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 Повторять_Пока используется тогда, когда количество повторений цикла зависит от некоторого условия, проверяемого перед выполнением цикла. Этот оператор имеет следующий вид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торять_П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огическое_выра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ок_операто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логическое_выражение истинно, то будет выполняться блок_операторов. После его выполнения  логическое_выражение вычисляется заново, и если оно опять истинно, блок_операторов опять повторяется и так далее. Таким образом, цикл не завершиться до тех пор, пока логическое_выражение не станет ложн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  Используя оператор Повторять_Пока, также следует помнить о зацикливании, то есть следует проверять, сможет ли он когда-нибудь завершиться. Если логическое условие всегда будет истинным, то цикл никогда не закончится. Поэтому всегда следует проверить, будет ли когда-нибудь условие ложны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391520" y="60958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83808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 Повторять_Для используется тогда, когда количество повторений цикла известно заранее и может быть   задано    как      промежуток     между начальным и конечным значениями переменной, называемой счетчиком. Он имеет следующий вид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торять_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четчик От нач_значение До кон_зна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ок_операто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менная Счетчик должна быть переменной целого типа и не может быть элементом массива. нач_значение и кон_значение   могут    быть   целыми арифметическими выражениями, причем    если    значение    выражения нач_значение больше, чем значение выражения кон_значение, то цикл не будет выполняться вообще. Если же начальное значение меньше или равно конечному значению, то цикл будет выполняться следующее число раз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повторений = кон_значение - нач_значение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ктически, после каждого выполнения тела цикла переменная Счетчик увеличивается на 1, и если Счетчик не превышает кон_значение, то цикл выполняется еще раз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6248520" y="5943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71600" y="914400"/>
            <a:ext cx="6705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мма :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вторять_Для i От 5 До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мма := Сумма +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начале переменная Сумма получает значение 0. Затем цикл повторяется 11 раз (15 - 5 + 1 = 11) и каждый ра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мма увеличивается на текущее значение переменной i. Таким образом получим, что Сумма = 0 + 5 + 6 + 7 + 8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+ 10 + 11 + 12 + 13 + 14 + 15 = 1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7391520" y="5562720"/>
          <a:ext cx="841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562720"/>
                    <a:ext cx="841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95280" y="167652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зык ИнтАл допускает изменение перемен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нутри блока операторов. Иногда это можно использовать, если нужно закончить выполнение цикла преждевременно - следует просто устан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максимальное значение. Изменение переменн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нутри блока операторов можно использовать для организации цикла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гом. Цикл с шагом - это обыкновенный цикл, у которого переменн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меняется не на 1 за каждый шаг, а на некоторое целое значение. Например, если необходим цикл с шагом m, то следует увеличивать переменну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нутри блока операторов на m-1 (на единицу она увеличивается автоматическ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изменении переменно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следует не забывать, что это может повлиять на выполнение цикла так, что он никогда не закончит работу (например, если в блоке операторов вы будете уменьшать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на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- суммарное увеличение равно 0,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никогда не достигнет максимального значения, а значит цикл не завершится). Такая ситуация называется зациклива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7086600" y="60958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523eb"/>
                </a:solidFill>
                <a:latin typeface="Garamond"/>
              </a:rPr>
              <a:t>Запишите в тетрадь тему урока и пример: </a:t>
            </a:r>
            <a:br>
              <a:rPr sz="2800"/>
            </a:br>
            <a:r>
              <a:rPr b="1" i="1" lang="en-US" sz="3600" spc="-1" strike="noStrike">
                <a:solidFill>
                  <a:srgbClr val="4f4fcf"/>
                </a:solidFill>
                <a:latin typeface="Garamond"/>
              </a:rPr>
              <a:t>Команда повторения Для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16765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523eb"/>
                </a:solidFill>
                <a:latin typeface="Times New Roman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90a8"/>
                </a:solidFill>
                <a:latin typeface="Times New Roman"/>
              </a:rPr>
              <a:t>Запишем алгоритм и блок-схему алгоритма вычисления суммы: 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S=6</a:t>
            </a:r>
            <a:r>
              <a:rPr b="0" lang="en-US" sz="2400" spc="-1" strike="noStrike" baseline="30000">
                <a:solidFill>
                  <a:srgbClr val="5490a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+7</a:t>
            </a:r>
            <a:r>
              <a:rPr b="0" lang="en-US" sz="2400" spc="-1" strike="noStrike" baseline="30000">
                <a:solidFill>
                  <a:srgbClr val="5490a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+8</a:t>
            </a:r>
            <a:r>
              <a:rPr b="0" lang="en-US" sz="2400" spc="-1" strike="noStrike" baseline="30000">
                <a:solidFill>
                  <a:srgbClr val="5490a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+…+99</a:t>
            </a:r>
            <a:r>
              <a:rPr b="0" lang="en-US" sz="2400" spc="-1" strike="noStrike" baseline="30000">
                <a:solidFill>
                  <a:srgbClr val="5490a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а Su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: Цел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:  Ве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торять_Для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:=s+k^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вод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38098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5181480"/>
            <a:ext cx="1600200" cy="260640"/>
          </a:xfrm>
          <a:prstGeom prst="parallelogram">
            <a:avLst>
              <a:gd name="adj" fmla="val 15348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2743200"/>
            <a:ext cx="2590920" cy="41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31590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352680"/>
            <a:ext cx="1904760" cy="363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3962520"/>
            <a:ext cx="1600200" cy="311040"/>
          </a:xfrm>
          <a:prstGeom prst="hexagon">
            <a:avLst>
              <a:gd name="adj" fmla="val 128617"/>
              <a:gd name="vf" fmla="val 11547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=6;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3733920"/>
            <a:ext cx="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0800" y="426708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495680"/>
            <a:ext cx="220968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=s+Квадрат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502920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723920" y="5702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724280" y="4114800"/>
            <a:ext cx="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15328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34320" y="5908680"/>
            <a:ext cx="1676160" cy="41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54864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629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10080" y="1943280"/>
                <a:ext cx="2962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1/3*Квадрат(x)-4*x+5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1/3*Квадрат(x)-4*x+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105520" y="2971800"/>
            <a:ext cx="2971800" cy="2489040"/>
            <a:chOff x="5105520" y="2971800"/>
            <a:chExt cx="2971800" cy="2489040"/>
          </a:xfrm>
        </p:grpSpPr>
        <p:sp>
          <p:nvSpPr>
            <p:cNvPr id="161" name=""/>
            <p:cNvSpPr/>
            <p:nvPr/>
          </p:nvSpPr>
          <p:spPr>
            <a:xfrm>
              <a:off x="5105520" y="3048120"/>
              <a:ext cx="251460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2971800"/>
              <a:ext cx="1676160" cy="2374920"/>
            </a:xfrm>
            <a:custGeom>
              <a:avLst/>
              <a:gdLst/>
              <a:ahLst/>
              <a:rect l="l" t="t" r="r" b="b"/>
              <a:pathLst>
                <a:path w="1056" h="1496">
                  <a:moveTo>
                    <a:pt x="0" y="48"/>
                  </a:moveTo>
                  <a:cubicBezTo>
                    <a:pt x="176" y="772"/>
                    <a:pt x="352" y="1496"/>
                    <a:pt x="528" y="1488"/>
                  </a:cubicBezTo>
                  <a:cubicBezTo>
                    <a:pt x="704" y="1480"/>
                    <a:pt x="968" y="2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47242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Физкультминутка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077320" y="304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оставление алгоритмов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3716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Составьте алгоритм вычисления суммы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819520" y="2971800"/>
                <a:ext cx="4626000" cy="31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0102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Запишите домашнее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задание:</a:t>
            </a:r>
            <a:br>
              <a:rPr sz="4400"/>
            </a:b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параграф 50 п.1-3, №1,2;</a:t>
            </a:r>
            <a:br>
              <a:rPr sz="4400"/>
            </a:b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5 уровень: №3,4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90920" y="5715000"/>
            <a:ext cx="5029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елаем успехов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457200"/>
          <a:ext cx="18381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1838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ьте алгоритм определяющий: принадлежит ли произвольно выбранная точка заштрихованному прямоугольни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_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:=(x&gt;=-1) и (x&lt;=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:=(y&gt;=-3) и (y&lt;=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4008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809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3429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54600" y="2176560"/>
                <a:ext cx="22748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-2*Квадрат(x)+9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-2*Квадрат(x)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048120"/>
            <a:ext cx="25146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952880" y="3200040"/>
            <a:ext cx="2590920" cy="2971800"/>
            <a:chOff x="4952880" y="3200040"/>
            <a:chExt cx="2590920" cy="2971800"/>
          </a:xfrm>
        </p:grpSpPr>
        <p:sp>
          <p:nvSpPr>
            <p:cNvPr id="188" name=""/>
            <p:cNvSpPr/>
            <p:nvPr/>
          </p:nvSpPr>
          <p:spPr>
            <a:xfrm flipV="1">
              <a:off x="5334120" y="3656880"/>
              <a:ext cx="1676160" cy="2374920"/>
            </a:xfrm>
            <a:custGeom>
              <a:avLst/>
              <a:gdLst/>
              <a:ahLst/>
              <a:rect l="l" t="t" r="r" b="b"/>
              <a:pathLst>
                <a:path w="1056" h="1496">
                  <a:moveTo>
                    <a:pt x="0" y="48"/>
                  </a:moveTo>
                  <a:cubicBezTo>
                    <a:pt x="176" y="772"/>
                    <a:pt x="352" y="1496"/>
                    <a:pt x="528" y="1488"/>
                  </a:cubicBezTo>
                  <a:cubicBezTo>
                    <a:pt x="704" y="1480"/>
                    <a:pt x="968" y="2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7242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:=(x&gt;=-2) и (x&lt;=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:=(y&gt;=-2) и (y&lt;=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8580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733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3429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89680" y="2176560"/>
                <a:ext cx="1801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грамма Парабола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 Куб( x)+5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:=Куб(x)+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3048120"/>
            <a:ext cx="25146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2743200"/>
            <a:ext cx="838080" cy="3352680"/>
          </a:xfrm>
          <a:custGeom>
            <a:avLst/>
            <a:gdLst/>
            <a:ahLst/>
            <a:rect l="l" t="t" r="r" b="b"/>
            <a:pathLst>
              <a:path w="528" h="2112">
                <a:moveTo>
                  <a:pt x="528" y="0"/>
                </a:moveTo>
                <a:cubicBezTo>
                  <a:pt x="508" y="412"/>
                  <a:pt x="488" y="824"/>
                  <a:pt x="432" y="1008"/>
                </a:cubicBezTo>
                <a:cubicBezTo>
                  <a:pt x="376" y="1192"/>
                  <a:pt x="264" y="920"/>
                  <a:pt x="192" y="1104"/>
                </a:cubicBezTo>
                <a:cubicBezTo>
                  <a:pt x="120" y="1288"/>
                  <a:pt x="32" y="1944"/>
                  <a:pt x="0" y="2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а Принадлежность_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:=(x&gt;=-2) и (x&lt;=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:=(y&gt;=-2) и (y&lt;=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3200400"/>
            <a:ext cx="1676520" cy="990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4008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3809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2895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8:54:38Z</dcterms:created>
  <dc:creator>Alla</dc:creator>
  <dc:description/>
  <dc:language>en-US</dc:language>
  <cp:lastModifiedBy>Alla</cp:lastModifiedBy>
  <cp:lastPrinted>2004-04-27T20:41:58Z</cp:lastPrinted>
  <dcterms:modified xsi:type="dcterms:W3CDTF">2004-04-27T20:42:54Z</dcterms:modified>
  <cp:revision>12</cp:revision>
  <dc:subject/>
  <dc:title>Тема: «Составление алгоритмов»</dc:title>
</cp:coreProperties>
</file>